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FF9-7F53-4021-9D7D-3547F731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45D-98A1-4551-B1B2-2BC8F993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BE5-48A0-47B5-B07D-4B47AF14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5D6-2AC2-4E13-8C55-6DAB781D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CB0-3355-4359-AB5C-7B027BB4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7BD-1C24-4AB9-8AEC-9F6E2049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BE9-5FC8-4456-B37B-B15A6B18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489-6224-421A-98F3-D05CA7E0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176-BD65-4AB7-83B8-964D610F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1F2-17FC-426F-87B3-9BD26745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D57-60B1-40CA-96F9-DF7FF7A1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48A-73B4-4105-B480-404BC38D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F9B1-0473-40F1-9094-74EAC63B2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i2.iofferphoto.com/img/item/435/225/46/0a5e_10.JPG&amp;imgrefurl=http://www.ioffer.com/i/43522546&amp;h=449&amp;w=300&amp;sz=114&amp;tbnid=ZspI_JLXePDFEM::&amp;tbnh=127&amp;tbnw=85&amp;prev=/images%3Fq%3Dlong%2B%2Bblack%2Bhair&amp;hl=en&amp;usg=__qMmBucZpPmKx78xi_MxSZIIthUk=&amp;ei=JaSYSaHfIYzgMMiR6O8L&amp;sa=X&amp;oi=image_result&amp;resnum=3&amp;ct=image&amp;cd=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vewireentertainments.com/ActImage/deano.jpg&amp;imgrefurl=http://www.livewireentertainments.com/Catergory.php%3FCatId%3D1%26CatName%3DSolo%2520Artist-Male&amp;usg=__DRI2s3fR5qirNSg_1Dhs6o79c1Q=&amp;h=2513&amp;w=1976&amp;sz=587&amp;hl=en&amp;start=5&amp;sig2=2bzIlmCgAfEBUElAu1FOBA&amp;um=1&amp;tbnid=z49mqazGTgBK4M:&amp;tbnh=150&amp;tbnw=118&amp;ei=SqiYSaSFG4HWMZmF5IEM&amp;prev=/images%3Fq%3Dyoung%2B%2Bguy%26um%3D1%26hl%3De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sinfulorigamipaper.files.wordpress.com/2008/11/rubens_old_man_.jpg&amp;imgrefurl=http://sinfulorigamipaper.wordpress.com/tag/age/&amp;usg=__nrao0QQ5D0GwbH0roEXJt156234=&amp;h=599&amp;w=514&amp;sz=51&amp;hl=en&amp;start=50&amp;sig2=qoB7Pvo8GQ1s8fkmQvThUQ&amp;um=1&amp;tbnid=co1Lz18IgRfmXM:&amp;tbnh=135&amp;tbnw=116&amp;ei=h6iYSYieLKTUMdnLlYQM&amp;prev=/images%3Fq%3Dold%2Bman%26start%3D42%26um%3D1%26hl%3Den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269.photobucket.com/albums/jj61/Juneoftheroses/old_woman.jpg&amp;imgrefurl=http://profile.myspace.com/index.cfm%3Ffuseaction%3Duser.viewProfile%26friendID%3D116351798&amp;usg=__sn-tPhfYBwd0jzEEaG5FF562ZSw=&amp;h=411&amp;w=325&amp;sz=23&amp;hl=en&amp;start=1&amp;sig2=Dhnqj5PpRQvsu5MxAMMETg&amp;um=1&amp;tbnid=WvCLgF_OzDJDjM:&amp;tbnh=125&amp;tbnw=99&amp;ei=wqiYSca8G4_aNI-K6foL&amp;prev=/images%3Fq%3Dold%2B%2Bwoman%26um%3D1%26hl%3Den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images-cdn01.associatedcontent.com/image/A2410/241001/300_241001.jpg&amp;imgrefurl=http://www.associatedcontent.com/article/659291/prom_hairstyles_for_todays_young_woman.html&amp;usg=__1rEmx_qBmWW6OCLjf2QKcPhQ1SM=&amp;h=436&amp;w=300&amp;sz=26&amp;hl=en&amp;start=6&amp;sig2=VnRYyKJgURRdsnVwWkAjqQ&amp;um=1&amp;tbnid=yKIKuRCyFu3FRM:&amp;tbnh=126&amp;tbnw=87&amp;ei=FqmYSaqZHoHWMbiF5IEM&amp;prev=/images%3Fq%3Dyoung%2B%2Bwoman%26um%3D1%26hl%3De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en/9/9d/Elton_John_-_A_Single_Man.jpg&amp;imgrefurl=http://en.wikipedia.org/wiki/index.html%3Fcurid%3D1205465&amp;usg=__uxDSaAB0YY5BdVhdoL6KxLdbbfk=&amp;h=300&amp;w=301&amp;sz=28&amp;hl=en&amp;start=6&amp;sig2=Mp2z2rzE0Enr7vqzSXmEPw&amp;um=1&amp;tbnid=7ZxVPzxH0XZUkM:&amp;tbnh=116&amp;tbnw=116&amp;ei=XqmYSf-NK4miMuGvoP8L&amp;prev=/images%3Fq%3Dsingle%2B%2Bman%26um%3D1%26hl%3Den%26sa%3D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hollywoodnews.com/artman2/uploads/1/tom-cruise_1.jpg&amp;imgrefurl=http://www.thehollywoodnews.com/artman2/publish/movie_news/Tom-Cruise-in-Shrek-4-13040908.php&amp;usg=__dlfMm10nZb4M9ZkntChbPQNGLUc=&amp;h=400&amp;w=274&amp;sz=17&amp;hl=en&amp;start=2&amp;sig2=WkOdfEMEhcZpxRDEMrsi2A&amp;um=1&amp;tbnid=0SF4FvRmBGFYMM:&amp;tbnh=124&amp;tbnw=85&amp;ei=qFGZSdbJGKPeMOGX5YcM&amp;prev=/images%3Fq%3Dtom%2Bcruise%26um%3D1%26hl%3Den%26sa%3DN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jaunted.com/files/5957/tom_cruise_bambi_katie.jpg&amp;imgrefurl=http://www.jaunted.com/story/2007/11/30/75630/389/travel/Tom%2BCruise%27s%2BWeird%2BLove%2BAffair%2BWith%2BGermany&amp;usg=__qt2hwRBPiHZTFtjlKlsJJ1cY_Ys=&amp;h=393&amp;w=386&amp;sz=23&amp;hl=en&amp;start=12&amp;sig2=pKGWN4FU-RqvyRzc0yffvw&amp;um=1&amp;tbnid=74y9wEDIW_RIcM:&amp;tbnh=124&amp;tbnw=122&amp;ei=qFGZSdbJGKPeMOGX5YcM&amp;prev=/images%3Fq%3Dtom%2Bcruise%26um%3D1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ubjektiv.eu/photoblog/images/20070606213224_mr-green-eyes.jpg&amp;imgrefurl=http://www.subjektiv.eu/photoblog/index.php%3Fshowimage%3D303&amp;usg=__8IluU3o_LkbKQctV45-4jPy5ei4=&amp;h=525&amp;w=700&amp;sz=117&amp;hl=en&amp;start=7&amp;sig2=W89Q_v-tszojSPyRaaFxBg&amp;tbnid=jzshAjUzPmqkYM:&amp;tbnh=105&amp;tbnw=140&amp;ei=eFKZSfnMC4HWMfCD4IEM&amp;prev=/images%3Fq%3Dgreen%2B%2Beyes%26hl%3Den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z.about.com/d/beauty/1/5/i/H/short10.JPG&amp;imgrefurl=http://beauty.about.com/od/hairstylephotogalleries/ss/sleekhair_8.htm&amp;h=398&amp;w=319&amp;sz=19&amp;tbnid=m7wQ4umIVl81iM::&amp;tbnh=124&amp;tbnw=99&amp;prev=/images%3Fq%3Dshort%2B%2Bblack%2Bhair&amp;hl=en&amp;usg=__CerH2hCUFD48PSIxu1E8x66Vs9o=&amp;ei=gaSYSYi1NYzgMOiQ5O8L&amp;sa=X&amp;oi=image_result&amp;resnum=2&amp;ct=image&amp;cd=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gimps.de/pictures/albums/userpics/10001/short-hair-cuts-styles.jpg&amp;imgrefurl=http://gimps.de/pictures/264-short-hair-cuts-and-styles&amp;usg=__ZGvcqp94OmQJJzuUvc9x-k1IEAw=&amp;h=600&amp;w=514&amp;sz=50&amp;hl=en&amp;start=11&amp;sig2=hDYFLlWZC3VnXjPB-qjVQg&amp;um=1&amp;tbnid=f2xZTo5P1ON9jM:&amp;tbnh=135&amp;tbnw=116&amp;ei=naSYSaP8LYmiMvCvoP8L&amp;prev=/images%3Fq%3Dshort%2B%2Bhair%26um%3D1%26hl%3Den%26sa%3D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y2day.com/fashion-and-showbiz/men-corner/hair-styles/asian/images/Punk%2520Hair%2520Style%2520Man,%2520Long%2520Hair%2520Style,%2520Highlight%2520-%2520brunette%2520%26%2520brown.jpg&amp;imgrefurl=http://www.joy2day.com/fashion-and-showbiz/men-corner/hair-styles/asian/&amp;usg=__8WKP1Yq9cEqhRJ6iDNi_u5znoiY=&amp;h=352&amp;w=300&amp;sz=37&amp;hl=en&amp;start=2&amp;sig2=H34-dDUdO2vlCP2aVsm51g&amp;tbnid=Sai_YzI6oGllmM:&amp;tbnh=120&amp;tbnw=102&amp;ei=6FaZSbeTA4naMLWL4IkM&amp;prev=/images%3Fq%3Dpunk%2Bwoman%2Bshort%2Bbrown%2Bhair%26hl%3Den%26rlz%3D1T4SKPB_enUS283US283%26sa%3DX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1.bp.blogspot.com/_e7iF_pabt-4/SMU4kOlxlXI/AAAAAAAABjU/BffnFEDAIkI/s320/short%2Bpixie%2Bhair%2Bstyles%2Bfor%2Bwomen.jpg&amp;imgrefurl=http://wantbeautytips.blogspot.com/2008/09/different-types-of-short-hairstyles-for.html&amp;usg=__r25EnNXfoDjlJ1NYsuUSk6Z0elw=&amp;h=320&amp;w=272&amp;sz=17&amp;hl=en&amp;start=5&amp;sig2=KUJ4yaF1-Tvn_8N29CjQww&amp;tbnid=CxVrhN4GsVkOzM:&amp;tbnh=118&amp;tbnw=100&amp;ei=6FaZSbeTA4naMLWL4IkM&amp;prev=/images%3Fq%3Dpunk%2Bwoman%2Bshort%2Bbrown%2Bhair%26hl%3Den%26rlz%3D1T4SKPB_enUS283US283%26sa%3DX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images.google.com/imgres?imgurl=http://www.babble.com/CS/blogs/famecrawler/2008/03/16-22/madonna_guy_042307.jpg&amp;imgrefurl=http://actionhandling.wordpress.com/&amp;usg=__ie4g4HftUClQc90gSsQxza1L_4E=&amp;h=335&amp;w=390&amp;sz=25&amp;hl=en&amp;start=10&amp;sig2=9xyRReBitR-k6laf8dAaHw&amp;tbnid=GmLQv_37mpWssM:&amp;tbnh=106&amp;tbnw=123&amp;ei=aViZSYbgKo_aNN2I5foL&amp;prev=/images%3Fq%3Dguy%2B%2B50%2Byears%2B%2Bold%26hl%3Den%26rlz%3D1T4SKPB_enUS283US283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duplanedu.com/woman_graduating_college.jpg&amp;imgrefurl=http://eduplanedu.com/home.html&amp;usg=__HGkbhs6owzsShsS90jXnWDiTtFg=&amp;h=423&amp;w=284&amp;sz=140&amp;hl=en&amp;start=1&amp;sig2=1koD8xWy8ch-A6uEQ-QaSA&amp;tbnid=GQvhNe1GlcWBvM:&amp;tbnh=126&amp;tbnw=85&amp;ei=dFqZSfvGB4_aNPOI5foL&amp;prev=/images%3Fq%3Dwoman%2Bgraduating%2B%2Bcollege%26hl%3Den%26rlz%3D1T4SKPB_enUS283US283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reet-chic.co.uk/assets/images/persons/persons-large/Oct/skinny-guy-oct-large.jpg&amp;imgrefurl=http://www.street-chic.co.uk/2007-10-archive.html&amp;usg=__OuAW8ks36PbbH78MjWW5YzWA7oE=&amp;h=750&amp;w=500&amp;sz=335&amp;hl=en&amp;start=8&amp;sig2=a3WgUFDDBpbBEXAelIh2qg&amp;um=1&amp;tbnid=aHZ3lmq--EiMFM:&amp;tbnh=141&amp;tbnw=94&amp;ei=D6WYSfzCO5LgM_i97fYL&amp;prev=/images%3Fq%3Dskinny%2Bguy%26um%3D1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rginmedia.com/microsites/movies/slideshow/toptensexscenes/img_9.jpg&amp;imgrefurl=http://www.virginmedia.com/movies/galleries/topsexscenes.php%3Fssid%3D9&amp;usg=__Qqae9jXwz9ZsHvghqNtN-was0-s=&amp;h=400&amp;w=300&amp;sz=53&amp;hl=en&amp;start=4&amp;sig2=_hmaf-8y7pwjLAVE5-dLQQ&amp;um=1&amp;tbnid=Rp2ruqyFeJI4MM:&amp;tbnh=124&amp;tbnw=93&amp;ei=hqaYSeaaFY_aNP6I5foL&amp;prev=/images%3Fq%3Dtall%2Bguy%26um%3D1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miiplaza.net/tag/640/480/scale/546/George_699_20061213020925.jpeg&amp;imgrefurl=http://gamercreated.com/mii/699&amp;usg=__xQPv1wVnJwoEpWXjA40Yu3EfMVE=&amp;h=480&amp;w=360&amp;sz=29&amp;hl=en&amp;start=19&amp;sig2=DhuYoX_lLUTvx4OSVm46vw&amp;um=1&amp;tbnid=eP9DaPT-LQPjaM:&amp;tbnh=129&amp;tbnw=97&amp;ei=16aYSebRJpC2MaCN-IUM&amp;prev=/images%3Fq%3Dshort%2B%2Bguy%26um%3D1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1.static.flickr.com/114/312435398_231ccb6b65.jpg&amp;imgrefurl=http://www.flickr.com/photos/bigblonde/312435398/&amp;usg=__XmGTQasDoZR-pIph_jh6EQ1rD_M=&amp;h=334&amp;w=500&amp;sz=102&amp;hl=en&amp;start=8&amp;sig2=mbWR5hmejHc3anX-3sSwMQ&amp;um=1&amp;tbnid=-rmPIv2qZtDv4M:&amp;tbnh=87&amp;tbnw=130&amp;ei=cqeYSfnmK4miMvCunP8L&amp;prev=/images%3Fq%3Dblue%2B%2Beyes%26um%3D1%26hl%3D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g.com/science/haircare/hair_twh_63/hair_63.jpg&amp;imgrefurl=http://www.pg.com/science/haircare/hair_twh_63.htm&amp;usg=__yMdKoAQs-t1Q3K8S_yBE2_7fJ8Q=&amp;h=845&amp;w=648&amp;sz=52&amp;hl=en&amp;start=61&amp;sig2=zt5j15UTifzxQ9z2RZEgPw&amp;um=1&amp;tbnid=0ftWXkPTuvd_gM:&amp;tbnh=145&amp;tbnw=111&amp;ei=9KeYSbD8O6X6NJ2Jzf0L&amp;prev=/images%3Fq%3Dblack%2B%2Bhair%26start%3D42%26um%3D1%26hl%3Den%26sa%3D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ער    ארוך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ערות  ארוכ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24379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253548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http://www.ioffer.com/i/4352254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0400" y="2438280"/>
            <a:ext cx="229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צעי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/  איש 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זקן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1720" y="2057400"/>
            <a:ext cx="2876400" cy="3657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1600200"/>
            <a:ext cx="327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ה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צעיר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/  אישה   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זקנה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438280"/>
            <a:ext cx="3078000" cy="3886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66880"/>
            <a:ext cx="268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ווק    /   רווק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828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5029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נמוך   אבל  חתיך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209680"/>
            <a:ext cx="23508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3920" y="1905120"/>
            <a:ext cx="3672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בחור    שמח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3460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עיניים      ירוק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71468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מח      ושמ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1776240"/>
            <a:ext cx="3810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עירה (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) פנקיסטית    גבוה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3486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בלונדינית  עם  עיניים   כחול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238560" cy="4791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952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איש  הכי  גבוה   בעול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2385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יער  קצר  </a:t>
            </a:r>
            <a:br>
              <a:rPr sz="4000"/>
            </a:b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ערות  קצר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ttp://beauty.about.com/od/hairstylephotogalleries/ss/sleekhair_8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8720" y="1905120"/>
            <a:ext cx="3589200" cy="449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828800"/>
            <a:ext cx="36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ופא  "   חתיך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ופא "   גב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29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ופא"  עם עיניים  ירוק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7184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צעירה (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) שערות חומות  קצר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פנקיסטית  מחפשת  בחור  יפ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057400"/>
            <a:ext cx="2460600" cy="289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72080" y="1905120"/>
            <a:ext cx="3100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דוקטור  לפילוסופיה  ( בת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)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ונדינית עם עיניים כחול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ערות ארוכות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חפשת  בעל  (עד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537000"/>
            <a:ext cx="4971960" cy="3321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3276720"/>
            <a:ext cx="35812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רווק  (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)  נמוך וחתיך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יניים  שחורות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חפש  אקדמא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86000"/>
            <a:ext cx="2467080" cy="3657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3438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סטודנטית בת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קיבוץ  בגליל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חפשת  בחור  שמח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572000" cy="306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9880" y="25909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תל אביב (בן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)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דירה  - מכוני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מח  ושמן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חפש קיבוצניק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2752560" cy="2895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76920" y="3041640"/>
            <a:ext cx="3971880" cy="313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1305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     ר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44792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בחור  שמ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14640" y="2133720"/>
            <a:ext cx="33735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בחור    גב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7524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  נמוך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600200"/>
            <a:ext cx="349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רוצה   להיות  גב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19520" y="1600200"/>
            <a:ext cx="1704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יניים  כחול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905120"/>
            <a:ext cx="47246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יער  שחו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ערות        שחור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828800"/>
            <a:ext cx="29829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23:56Z</dcterms:created>
  <dc:creator>Preferred Customer</dc:creator>
  <dc:description/>
  <dc:language>en-US</dc:language>
  <cp:lastModifiedBy>aschlezinger</cp:lastModifiedBy>
  <dcterms:modified xsi:type="dcterms:W3CDTF">2010-11-02T21:50:02Z</dcterms:modified>
  <cp:revision>4</cp:revision>
  <dc:subject/>
  <dc:title>שיער    ארוך   שיערות  ארוכות  </dc:title>
</cp:coreProperties>
</file>